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A90-06EE-4153-92A1-7924CDC4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5A7-AA63-4B9C-B9D3-6AAF1A82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A2D-9440-45AE-B2C0-F4DC2460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EF7-63D1-4BCB-B8CE-53B69A6E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B6D-108B-499A-B2D3-459C82BA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424-8CA5-48DE-AE9C-5B820AD4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53B-3D4B-4D2B-9BB6-C765A40A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6B7-B524-490D-BB19-3FB41FED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4E3-9754-4BDC-97DF-173F2E59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5C1-0045-4B54-8CDE-F699AE60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833-717A-4467-829E-186EFDD3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9D5-FD56-4773-90A2-A7DDCE19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CAFF-B64D-4A4D-AB64-B41E85640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FUNCIONES SINTÁC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de régimen ver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eposición la que necesita el verbo para comple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verbos como: confiar en, pensar en,  desconfiar 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 verbos pronominales: acordarse de, desvivirse por, decidirse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a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on verbos en voz pasiva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 con “p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que confundirlo con el complemento circunstancial de ca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olver la oración a activa hace de sujeto agente de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JE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RTA EN NÚMERO Y PERSONA CON 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ESTAR ELIDIDO U OMI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ORACIONES IMPERSONALES QUE NO TIENEN SU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METEOR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ER NO AUXILIAR EN 3ª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“SER” Y “HACER” CON PALABRAS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FEMA IMPERSONAL “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predicado n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COPULATIVOS: SER , ESTAR, PARECER ( también pueden ser no copulativos cuando no lleven atrib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ERBO ES LA COPULA ENTRE EL SUJETO Y EL ATRIBUTO Y NO TIENE SIG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ATRIBUTO PUE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adje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preposicional equivalente a un ad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sustituir por “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 al verbo a ¿cóm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verb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do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direc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con verbos tran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intagma nominal con un sustantivo o pronombre personal como núcl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es un sintagma preposicional con “a” ( con animad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que padece la acción del verbo y al convertir la oración en pasiva pasa a ser sujeto pa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sustituir por : lo, los, la ,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persona que se beneficia o daña con la acción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es un sintagma preposicional con “a” o un sintagma nominal con pronombr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volver la oración a pasiva queda con la mi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sustituir por: le ,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 el leísmo tolerado con el masculino si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circunsta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un sintagma nominal, adverbial o preposicional que expresa una circunstancia del verb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mpo ¿ 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 ¿ 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 ¿ 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o ¿con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ñía ¿ con quié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dad ¿ 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¿cuán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gar ¿dónde? ¿ adónde? De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fiere al sujeto o al complemento dir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de al verbo a 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sintagma adjetival o n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 con verbos semicopul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ribuyen una cualidad con el pensamiento, palabra,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va con el verbo: parecer, aparecer, nacer, llegar a ser, morir, perman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e ir con otros verbos: 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22:15:10Z</dcterms:created>
  <dc:creator>AUDIOLEASK</dc:creator>
  <dc:description/>
  <dc:language>en-US</dc:language>
  <cp:lastModifiedBy>AUDIOLEASK</cp:lastModifiedBy>
  <dcterms:modified xsi:type="dcterms:W3CDTF">2014-03-27T22:45:23Z</dcterms:modified>
  <cp:revision>2</cp:revision>
  <dc:subject/>
  <dc:title>LAS FUNCIONES SINTÁCTICAS </dc:title>
</cp:coreProperties>
</file>